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C371-9B8C-4F94-AAFF-C4B255745A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JAV notarizavimas – sec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2 (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9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p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ektroninio parašo direktyvo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Reikalavimai taikomi saugiam arba patobulintam el. parašui –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Uncitral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 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p. įstatym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 str. 5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str. 3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. Para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7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D4F-DC87-4694-8450-7B6BD385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1C1-7858-4715-98D1-0D2B3FEB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CF5-D68B-44C1-BDEA-9FAAF2DF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BC6-5756-470E-B95C-0CB33E25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5911-53B9-4D97-88C1-B6F3D301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643F-6AC3-4E66-87E4-79B095D1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9BE9-8668-43DB-8B18-F171F711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18D9-95D7-4164-9C83-8D63AF41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DBA6-20B3-48DE-B158-D6A54F92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C6F4-B05B-43A9-9FEE-AD93C1AE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8F59-B793-4591-A24B-B83EB25E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3B4-E78A-4CC2-A6B0-F113703E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978E-DF43-4A63-9EE1-9DB518F2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51A8-F288-446A-A4CE-4F69E9FA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78D0-BEBE-4790-A394-44B0D088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CB2D-C813-47C4-A96B-1D74C972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6950-53FB-4649-A122-257BB233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919-CD69-43CF-99E2-E92C7935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988-D3C1-4CF4-AF72-E445BCC9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F0C-056E-4CDF-9EEC-D5100FE5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789-2D9B-4A9F-9168-AF150E37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BF3-CD3E-48D4-9987-48C70D45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8C8-F345-4D6D-9081-1E61C3E9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26F-9A3C-4F95-B545-9343BA8F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-03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3366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15AC-D041-496D-BF03-5B0F1B91738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9D89-0550-4681-BEBB-0A234597E5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is paraša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c3300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ugus e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ktroninis parašas, sukurtas saugia parašo formavimo įranga ir patvirtintas galiojančiu kvalifikuotu sertifikatu, elektroniniams duomenims turi tokią pačią teisinę galią kaip ir parašas rašytiniuose (ES – popieriniuose) dokumentuose ir yra priimtinas kaip įrodymas teismo proce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rašas nepraranda teisinės galios dėl to, k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yra elektronin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grįstas kvalifikuotu sertifika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remtas kvalifikuotu sertifikatu, išduotu akredituoto sertifikavimo paslaugų teikėj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sukurtas saugia parašo formavimo įrang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 princip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R Elektroninio parašo įstatym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traipsni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 dalis,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o parašo direktyvos preambulė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unktas, UNCITRAL pavyzdinio įstatymo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straipsn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etaikoma, kai egzistuoja notarizavimo ar registravimo reikalavim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notarizavimas: JAV, Kanados Kvebeko provincija, Prancūz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kaitmeninio parašo naudojimo procedū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webguard02_dsv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ertifik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tas 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ktroninis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iudijimas, kuris susieja pasirašantįjį su parašo tikrinimo duomenimis (ES ir LT - ir patvirtina to asmens tapatyb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vimo paslaugų teikėjas – išduoda sertifikatą, suteikia teisę bet ka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?&gt;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pažinti su jo duomenimis ir teikia susijusias paslau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ertifikavimo paslaugų teikėj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pra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specialių reikalavimų neatitinka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šduodantys kvalifikuotus sertifik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aiškią teisinę galią turi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kredituo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vanoriškai gavę valstybės patvirtinimą, kad atitinka keliamus reikalavim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valifikuotų sertifikatų  išd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ietuv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ūtinas registravi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Registruotų paslaugų teikėjų išduoti sertifikatai naudojami tik susirašinėjimui su valstybės ir savivaldybių institucijom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Sąjung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ik savanoriškas akreditavimas – kiekvienas leidimas, susijęs su sertifikavimo paslaugų teikimu, suteiktas sertifikavimo paslaugų teikėjo prašy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šankstinių leidimų sistema draudži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Preambulė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, 12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 punktai, Direktyvo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t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paslaugų teikėjas atitinka bendrus     reikalavimus ir savanoriškai akreditavosi ES arba Lietuvoje (netaikomas registravimosi reikalav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sertifikatas garantuotas ES (Lietuvoje) veikiančio sertifikavimo paslaugų teikėjo, atitinkančio reikalavimus, nustatytus kvalifikuotiems tiekėj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 pagal tarptautinę sutart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CITR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diskriminavimas geografiniu pagrin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uri būti pripažintas, jei garantuoja pakankamai lygiavertį patikimumo lyg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Šalių susitarimo pripažin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m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ampr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reguliavimo bū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g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kaitmeninio parašo naudojimo procedū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ert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žsienio sertifikatų pripaž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ampr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parašas suprantamas kaip duomenys, kurie susiejami su kitais (pasirašomais) elektroniniais duomenimis ir atlieka pasirašiusio asmens identifikavimo funkciją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UNCITRAL 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r liudija, kad asmuo patvirtino pasirašytą informaciją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ardo ir ar pavardės nurod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N (Židrūnas Šapalas v. AB “Lietuvos taupomasis bank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Kriptografinės priemonės (skaitmeninis paraš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iometrinės priemonė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reguliavimo būd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škai neutr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ios technologijo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bstraktus elektroninio parašo galimybė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vyzdžiai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Kalifornijos valst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federalini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škai neutralus (dualistinis)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statymas nesusietų su konkrečia technologija reikalavimų, kurie užtikrina, kad elektroninis parašas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ir LT -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ugus ar patobulintas (advanced)) patikimai funkciškai atitiktų paprastą paraš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CITRAL pavyzdinis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direkty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ikalavimai saugiam el. paraš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ik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Vienareikšmiškai susietas su pasirašančiu asmeni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avima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eidžia identifikuoti pasirašantį asmen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aug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kurtas priemonėmis, kurias gali tvarkyti tik pasirašantis asmuo savo val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ntegr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sijęs su pasirašytais duomenimis taip, kad bet koks šių duomenų pakeitimas yra pastebi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 –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galimybė pastebėti bet kokį parašo pakitim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ios technologijos įtvir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s tik 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skaitmeninis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paraš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s parašas, kuris kuriamas naudojant viešojo rakto technologiją (PKI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irmasis reguliavimo bū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JAV Jutos valst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rgentin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alaiz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ksčiau - Vokiet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ik fizinis asmu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, Bulgarijos Elektroninio dokumento ir elektroninio parašo įstatymas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r fiziniai, ir juridiniai asme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, UNCITRAL, Slovėn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ecialu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tstovaujamojo (pvz., j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ridinio asmen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 teisė kontroliuoti sertifikatus, kuriuose yra informacijos apie jį (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etuva,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lovėn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Juridinio asmens atstovo para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šo prilyginimas parašui ir antspaud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6:19:43Z</dcterms:created>
  <dc:creator>tomlmn</dc:creator>
  <dc:description/>
  <dc:language>en-US</dc:language>
  <cp:lastModifiedBy>tlamanauskas</cp:lastModifiedBy>
  <dcterms:modified xsi:type="dcterms:W3CDTF">2004-11-22T09:36:52Z</dcterms:modified>
  <cp:revision>27</cp:revision>
  <dc:subject/>
  <dc:title>Savireguliacija Interne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25289306</vt:r8>
  </property>
  <property fmtid="{D5CDD505-2E9C-101B-9397-08002B2CF9AE}" pid="3" name="_AuthorEmail">
    <vt:lpwstr>tlamanauskas@rrt.lt</vt:lpwstr>
  </property>
  <property fmtid="{D5CDD505-2E9C-101B-9397-08002B2CF9AE}" pid="4" name="_AuthorEmailDisplayName">
    <vt:lpwstr>Tomas Lamanauskas</vt:lpwstr>
  </property>
  <property fmtid="{D5CDD505-2E9C-101B-9397-08002B2CF9AE}" pid="5" name="_EmailSubject">
    <vt:lpwstr>Del Informatikos Teisiu konspektu</vt:lpwstr>
  </property>
</Properties>
</file>